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F61-A43A-47D2-A219-967B7C05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4CD-F483-4400-BB6A-56A3FBE6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73E-8F03-4A3F-BA7C-8C70658E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7C1-93C5-4A1D-BC7F-8F0F9A4A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065-3D12-425F-AC5E-73156368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52F-213A-495A-8E0B-72E9D129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5C7-3645-409C-BC72-8443DF47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CDB-E915-4BF0-98B5-8FF1522A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211-E2AE-4AEE-97AA-E0FFEA25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67B-D4D6-4B4C-8CC7-0B5F139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E2E-7E56-4935-99E4-18579A7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3E4-CEC5-4D86-91A0-38D045B2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DC1-6BAC-4B5F-8E81-2DB74F2ED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CES ET FAIBLESSES APP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90612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ibl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9:22Z</dcterms:modified>
  <cp:revision>70</cp:revision>
  <dc:subject/>
  <dc:title>Contrôle interne des risques</dc:title>
</cp:coreProperties>
</file>